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18.wmf" ContentType="image/x-wmf"/>
  <Override PartName="/ppt/media/image6.jpeg" ContentType="image/jpeg"/>
  <Override PartName="/ppt/media/image10.png" ContentType="image/png"/>
  <Override PartName="/ppt/media/image8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gif" ContentType="image/gif"/>
  <Override PartName="/ppt/media/image20.gif" ContentType="image/gif"/>
  <Override PartName="/ppt/media/image19.wmf" ContentType="image/x-wmf"/>
  <Override PartName="/ppt/media/image15.gif" ContentType="image/gif"/>
  <Override PartName="/ppt/media/image14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6EA-CB4A-4783-B565-5406F79D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BCF-7A2E-4DC8-9529-1549473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5DC-BF23-4CA3-8629-8D76C50A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E9E-4BD0-4689-B714-96EA41E2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A14C-CCEB-4FCF-907C-AFE47F0C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1DD-199F-46A8-A2C6-2D9473C6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4D6-6255-4B55-BF16-2C03007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0C61-D9C3-43BF-8D6D-7781846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A806-BD44-4F69-90D4-1A68930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97F-9101-4BA1-AF75-5433538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5DE4-8A47-4B81-B365-B055275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FFB-D845-4D7A-A15E-2D8A53D0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0000-C5A1-4428-A429-5AE32CF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106A-7727-42C1-AB57-C3858B2D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3910-0557-4726-994A-928F2A9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8A1-9EE1-4D93-8023-FB70DF50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2332-5934-4EB7-B247-4CCA3B4E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7DA5-1B99-45FC-9986-24D9B5E0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0469-B25D-4162-980C-933156F3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9064-53C7-4656-A946-26E8DF71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53C3-433B-4888-8651-8F902F8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491D-01A0-4DEC-939A-1A9A63F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CB4-C2D1-4568-AF89-E36ACC33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2CF4-34E2-4780-9FED-ACBE51A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C961-088C-4342-9092-8CA06BA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6F41-C3F6-451A-B090-ED16CCA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52F2-7A38-49AB-B9FD-F8050E8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0D14-6187-4F94-9607-272AA33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EAD5-82E9-4B1F-8585-3CAF8FE5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1F8F-7155-4992-9F2B-FF1FB3CD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90C5-0D56-499E-8AA7-BB57D481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62B6-1809-4B28-A020-75F97806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C874-8D82-4905-BB85-82637ED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CA6-6E26-4B60-BC06-5FA0080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A6B8-1D60-4ADB-A5FC-43FB07F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8BCA-493B-46F2-9826-EC9B643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2E8E-4278-468D-8D91-9F9F14F9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3936-59AF-4A32-A137-1F794BC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E664-7FD5-48B7-A2BE-648DDBD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0D07-80B8-44D3-9AB4-62CD7C9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3902-E356-412C-BEFF-3E246A35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A149-7462-4730-84D0-183123D6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D09D-D787-45F9-8838-6226D793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9AE0-19F3-4799-89C6-AD1956BA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5BC-B6B2-41F2-A21D-9F52541B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710E-EEA6-4CD3-8FEA-94490CE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A92A-FA52-4AF1-A40E-8275B48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FA64-EFCF-4317-801C-08F0A22F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2708-2ED9-4645-96E7-B198F99B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8D75-0348-433C-8F62-41B56A4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C415-8ED6-4C8B-825E-B5E72B8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17EE-D711-4CB8-A4DA-5DDBE86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B420-07CE-4E5F-8249-34C4A88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D8F5-DEC7-46FC-A13B-19923F5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A75C-4DDD-4FE5-AE67-8EF63148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50E-E16C-4915-A03F-40D3BE4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98D4-E73B-44F7-9040-05B75E20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353BB-9C45-499C-8EB3-F092E23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719A-4B61-437B-948D-A59F2778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A03C-DA2C-401F-A0E9-C2CB572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C8D5-F490-41D3-871A-07428603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4803-DC1E-482F-A5DE-11D61B8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21FD7-0E2C-4527-AE4E-7900265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5FCF-B452-4D10-8628-5B52659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E875-3F2C-4999-8271-5B90171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C3DD-1484-4C10-895A-86441B0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37F-D57E-4D0D-8E06-19050F2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ACEFA-73CF-40C9-A482-7F63C2D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58AEA-8B2D-41B2-A108-9A0990B3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6027C-ECE1-4400-B13F-48E5210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9AB-3EF5-4D4B-81EF-874C5BA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FA5-0E96-4A28-838D-6324C73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02AF-5EB4-49A0-AACF-DCB6CE2AC55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B4A-390A-45FB-825F-C4A1B8402DB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5C67-F880-4ACA-A2EC-F150F376D45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B611-4C31-401F-A241-99901C3AA4D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860-DA55-4DA1-9314-8058591AFFE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7994-02CE-4F01-8C94-F9A50B9430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380880" y="228600"/>
            <a:ext cx="7086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00"/>
                </a:solidFill>
                <a:uFillTx/>
                <a:latin typeface="Comic Sans MS"/>
              </a:rPr>
              <a:t>Математика юных следопытов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7" name="Picture 4" descr="Schkola"/>
          <p:cNvPicPr/>
          <p:nvPr/>
        </p:nvPicPr>
        <p:blipFill>
          <a:blip r:embed="rId1"/>
          <a:stretch/>
        </p:blipFill>
        <p:spPr>
          <a:xfrm>
            <a:off x="2209680" y="4038480"/>
            <a:ext cx="2667240" cy="2652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17_1"/>
          <p:cNvPicPr/>
          <p:nvPr/>
        </p:nvPicPr>
        <p:blipFill>
          <a:blip r:embed="rId2"/>
          <a:stretch/>
        </p:blipFill>
        <p:spPr>
          <a:xfrm>
            <a:off x="6934320" y="3429000"/>
            <a:ext cx="1944720" cy="2895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ученик"/>
          <p:cNvPicPr/>
          <p:nvPr/>
        </p:nvPicPr>
        <p:blipFill>
          <a:blip r:embed="rId3"/>
          <a:stretch/>
        </p:blipFill>
        <p:spPr>
          <a:xfrm>
            <a:off x="7543800" y="228600"/>
            <a:ext cx="1017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99"/>
                </a:solidFill>
                <a:latin typeface="Arial Black"/>
              </a:rPr>
              <a:t>Учебные вопросы: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 записываются и обозначаются натуральные числа?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ое самое маленькое натуральное число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к сравниваются натуральные числа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слож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вычита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умнож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-49536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такое деление натуральных чисел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1" name="Picture 6" descr="книга"/>
          <p:cNvPicPr/>
          <p:nvPr/>
        </p:nvPicPr>
        <p:blipFill>
          <a:blip r:embed="rId1"/>
          <a:stretch/>
        </p:blipFill>
        <p:spPr>
          <a:xfrm>
            <a:off x="7616880" y="457200"/>
            <a:ext cx="1527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f0307ed9439c"/>
          <p:cNvPicPr/>
          <p:nvPr/>
        </p:nvPicPr>
        <p:blipFill>
          <a:blip r:embed="rId1"/>
          <a:stretch/>
        </p:blipFill>
        <p:spPr>
          <a:xfrm>
            <a:off x="380880" y="457200"/>
            <a:ext cx="4191120" cy="394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math02"/>
          <p:cNvPicPr/>
          <p:nvPr/>
        </p:nvPicPr>
        <p:blipFill>
          <a:blip r:embed="rId2"/>
          <a:stretch/>
        </p:blipFill>
        <p:spPr>
          <a:xfrm>
            <a:off x="4191120" y="3352680"/>
            <a:ext cx="49528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ff"/>
                </a:solidFill>
                <a:latin typeface="Comic Sans MS"/>
              </a:rPr>
              <a:t>Задания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 Зачем мы считаем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1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Заложено ли в числах что-то магическое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то мы знаем о числах – великанах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3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 Когда начали выполнять впервые действия над числами? </a:t>
            </a: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(4 команда исследует проблему и готовит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21_1"/>
          <p:cNvPicPr/>
          <p:nvPr/>
        </p:nvPicPr>
        <p:blipFill>
          <a:blip r:embed="rId1"/>
          <a:stretch/>
        </p:blipFill>
        <p:spPr>
          <a:xfrm>
            <a:off x="4257720" y="1905120"/>
            <a:ext cx="4659120" cy="4952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1129196"/>
          <p:cNvPicPr/>
          <p:nvPr/>
        </p:nvPicPr>
        <p:blipFill>
          <a:blip r:embed="rId2"/>
          <a:stretch/>
        </p:blipFill>
        <p:spPr>
          <a:xfrm>
            <a:off x="457200" y="2286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00"/>
                </a:solidFill>
                <a:latin typeface="Comic Sans MS"/>
              </a:rPr>
              <a:t>Желаю удачи!!!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9" name="Picture 5" descr="09288fba1b0c837673e461e2378ddfa3"/>
          <p:cNvPicPr/>
          <p:nvPr/>
        </p:nvPicPr>
        <p:blipFill>
          <a:blip r:embed="rId1"/>
          <a:stretch/>
        </p:blipFill>
        <p:spPr>
          <a:xfrm>
            <a:off x="3048120" y="2895480"/>
            <a:ext cx="2984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cc"/>
                </a:solidFill>
                <a:latin typeface="Comic Sans MS"/>
              </a:rPr>
              <a:t>Ваши цели: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6248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понять необходимость знания  темы новой темы для решения большого круга задач, показать широту применения этой темы в реальной жизн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omic Sans MS"/>
              </a:rPr>
              <a:t>развить качества мышления, которые  необходимы человеку в современном обществе, для общей социальной ориентации и решения практических пробл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Comic Sans MS"/>
              </a:rPr>
              <a:t>понять и оценить свой потенциал с точки зрения образовательной перспектив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2" name="Picture 16" descr="MPj04394420000[1]"/>
          <p:cNvPicPr/>
          <p:nvPr/>
        </p:nvPicPr>
        <p:blipFill>
          <a:blip r:embed="rId1"/>
          <a:stretch/>
        </p:blipFill>
        <p:spPr>
          <a:xfrm>
            <a:off x="6091200" y="1219320"/>
            <a:ext cx="305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5228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- научиться производить  вычисления, необходимые для применения в практической деятельност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- научиться решать основные задачи, применять понятие числа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80880" y="380880"/>
            <a:ext cx="7467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99"/>
                </a:solidFill>
                <a:latin typeface="Comic Sans MS"/>
              </a:rPr>
              <a:t>Ваши задачи:</a:t>
            </a:r>
            <a:endParaRPr b="0" lang="en-US" sz="4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45" name="Picture 6" descr="ef70c2d57c0fcf4303343c866a626210"/>
          <p:cNvPicPr/>
          <p:nvPr/>
        </p:nvPicPr>
        <p:blipFill>
          <a:blip r:embed="rId1"/>
          <a:stretch/>
        </p:blipFill>
        <p:spPr>
          <a:xfrm>
            <a:off x="2666880" y="4114800"/>
            <a:ext cx="2216160" cy="2743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09288fba1b0c837673e461e2378ddfa3"/>
          <p:cNvPicPr/>
          <p:nvPr/>
        </p:nvPicPr>
        <p:blipFill>
          <a:blip r:embed="rId2"/>
          <a:stretch/>
        </p:blipFill>
        <p:spPr>
          <a:xfrm>
            <a:off x="6400800" y="3124080"/>
            <a:ext cx="2984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e103"/>
                </a:solidFill>
                <a:latin typeface="Arial Black"/>
              </a:rPr>
              <a:t>Что мы знаем о числах?</a:t>
            </a:r>
            <a:endParaRPr b="0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51920" y="1066320"/>
            <a:ext cx="899172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Как записываются и обозначаются чис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Что называют однозначными, двузначными, многозначными числам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Какие выполняют арифметические действия над числами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9" name="Picture 5" descr="p4_z_1"/>
          <p:cNvPicPr/>
          <p:nvPr/>
        </p:nvPicPr>
        <p:blipFill>
          <a:blip r:embed="rId1"/>
          <a:stretch/>
        </p:blipFill>
        <p:spPr>
          <a:xfrm>
            <a:off x="5334120" y="3505320"/>
            <a:ext cx="3581280" cy="2792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2d7d190f7fd2"/>
          <p:cNvPicPr/>
          <p:nvPr/>
        </p:nvPicPr>
        <p:blipFill>
          <a:blip r:embed="rId2"/>
          <a:stretch/>
        </p:blipFill>
        <p:spPr>
          <a:xfrm>
            <a:off x="838080" y="4038480"/>
            <a:ext cx="3657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00"/>
                </a:solidFill>
                <a:latin typeface="Arial Black"/>
              </a:rPr>
              <a:t>Что мы уже умеем?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837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Арифметические действия над числам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пример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) 1305 *86 – 930 + 100*38 =115100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)  ( 564:47 +2592:72)* 250 - 200 = 118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Работа многозначными числами</a:t>
            </a: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-Прочитайте число 16402861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Решение задач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з двух городов одновременно навстречу друг другу выехали два поезда и встретились через 7 часов. Скорость первого поезда 102 км/ч, а второго 125км/ч. Найдите расстояние между городами?</a:t>
            </a:r>
            <a:r>
              <a:rPr b="0" lang="ru-RU" sz="30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3" name="Picture 5" descr="карандаш"/>
          <p:cNvPicPr/>
          <p:nvPr/>
        </p:nvPicPr>
        <p:blipFill>
          <a:blip r:embed="rId1"/>
          <a:stretch/>
        </p:blipFill>
        <p:spPr>
          <a:xfrm>
            <a:off x="7477200" y="2514600"/>
            <a:ext cx="1666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99ff"/>
                </a:solidFill>
                <a:latin typeface="Arial Black"/>
              </a:rPr>
              <a:t>Какие ещё бывают числа?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 Black"/>
              </a:rPr>
              <a:t>Натуральные числа</a:t>
            </a:r>
            <a:endParaRPr b="0" lang="en-US" sz="41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700" spc="-1" strike="noStrike">
                <a:solidFill>
                  <a:srgbClr val="00ff00"/>
                </a:solidFill>
                <a:latin typeface="Arial Black"/>
              </a:rPr>
              <a:t>Для счета предметов применяют натуральные числа. Любое натуральное число можно записать с помощью десяти цифр: </a:t>
            </a:r>
            <a:r>
              <a:rPr b="1" lang="ru-RU" sz="4000" spc="-1" strike="noStrike">
                <a:solidFill>
                  <a:srgbClr val="00ff00"/>
                </a:solidFill>
                <a:latin typeface="Comic Sans MS"/>
              </a:rPr>
              <a:t>0, 1, 2, 3, 4, 5, 6, 7, 8, 9</a:t>
            </a:r>
            <a:r>
              <a:rPr b="1" lang="ru-RU" sz="3700" spc="-1" strike="noStrike">
                <a:solidFill>
                  <a:srgbClr val="00ff00"/>
                </a:solidFill>
                <a:latin typeface="Arial Black"/>
              </a:rPr>
              <a:t>. Такую запись чисел называют десятичной.</a:t>
            </a:r>
            <a:r>
              <a:rPr b="0" lang="ru-RU" sz="37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6" name="Picture 5" descr="книга"/>
          <p:cNvPicPr/>
          <p:nvPr/>
        </p:nvPicPr>
        <p:blipFill>
          <a:blip r:embed="rId1"/>
          <a:stretch/>
        </p:blipFill>
        <p:spPr>
          <a:xfrm>
            <a:off x="0" y="0"/>
            <a:ext cx="1673280" cy="1752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письмо"/>
          <p:cNvPicPr/>
          <p:nvPr/>
        </p:nvPicPr>
        <p:blipFill>
          <a:blip r:embed="rId2"/>
          <a:stretch/>
        </p:blipFill>
        <p:spPr>
          <a:xfrm>
            <a:off x="7696080" y="1905120"/>
            <a:ext cx="121932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endParaRPr b="0" lang="en-US" sz="5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" y="1828800"/>
            <a:ext cx="860112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Натуральные числа»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0" name="Picture 4" descr="Teacher"/>
          <p:cNvPicPr/>
          <p:nvPr/>
        </p:nvPicPr>
        <p:blipFill>
          <a:blip r:embed="rId1"/>
          <a:stretch/>
        </p:blipFill>
        <p:spPr>
          <a:xfrm>
            <a:off x="914400" y="3505320"/>
            <a:ext cx="3049560" cy="3124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Espera2"/>
          <p:cNvPicPr/>
          <p:nvPr/>
        </p:nvPicPr>
        <p:blipFill>
          <a:blip r:embed="rId2"/>
          <a:stretch/>
        </p:blipFill>
        <p:spPr>
          <a:xfrm>
            <a:off x="5181480" y="3429000"/>
            <a:ext cx="216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WordArt 5"/>
          <p:cNvSpPr txBox="1"/>
          <p:nvPr/>
        </p:nvSpPr>
        <p:spPr>
          <a:xfrm>
            <a:off x="685800" y="3276720"/>
            <a:ext cx="76770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ят в себе числа?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3" name="Picture 8" descr="j0299125"/>
          <p:cNvPicPr/>
          <p:nvPr/>
        </p:nvPicPr>
        <p:blipFill>
          <a:blip r:embed="rId1"/>
          <a:stretch/>
        </p:blipFill>
        <p:spPr>
          <a:xfrm>
            <a:off x="380880" y="304920"/>
            <a:ext cx="2022480" cy="18050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"/>
          <p:cNvSpPr/>
          <p:nvPr/>
        </p:nvSpPr>
        <p:spPr>
          <a:xfrm>
            <a:off x="45720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Arial Black"/>
              </a:rPr>
              <a:t>Основополагающий вопрос:</a:t>
            </a:r>
            <a:endParaRPr b="0" lang="en-US" sz="4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5" name="Picture 6" descr="j0281904"/>
          <p:cNvPicPr/>
          <p:nvPr/>
        </p:nvPicPr>
        <p:blipFill>
          <a:blip r:embed="rId2"/>
          <a:stretch/>
        </p:blipFill>
        <p:spPr>
          <a:xfrm>
            <a:off x="6095880" y="4572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 Black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ачем мы считаем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аложено ли в числах что-то магическое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о мы знаем о числах – великанах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гда начали впервые выполнять действия над числами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8" name="Picture 5" descr="человек"/>
          <p:cNvPicPr/>
          <p:nvPr/>
        </p:nvPicPr>
        <p:blipFill>
          <a:blip r:embed="rId1"/>
          <a:stretch/>
        </p:blipFill>
        <p:spPr>
          <a:xfrm>
            <a:off x="6761160" y="4191120"/>
            <a:ext cx="1905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552</cp:lastModifiedBy>
  <dcterms:modified xsi:type="dcterms:W3CDTF">2010-05-31T12:10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